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D92D-E66F-4111-9C05-C737E9B95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A27E-8B6D-46C1-A3A1-9DA1FD49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ECD8-A857-475C-8369-D520B1923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61EC-F4BD-4763-AD49-F8F71E3DB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DB8A-9E09-446F-B45F-CBD1CD80A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F78A-EC60-4569-A12C-62B651909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8544-602E-46C7-AFE3-EE8C4DBDC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F0AA-BE17-409E-9345-AE74097B1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D56F-BCBF-4550-B241-B1E0AA5B8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9C44-C49A-4FD6-B430-571CDD25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8A3A-EE94-457C-A230-237C194D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650E-9B65-48FF-B7E3-3EEB6E77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d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829AA-D408-4A27-B72E-E304816D92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d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808000"/>
                </a:solidFill>
                <a:uFillTx/>
                <a:latin typeface="Times New Roman"/>
                <a:ea typeface="隶书"/>
              </a:rPr>
              <a:t>第七章</a:t>
            </a:r>
            <a:r>
              <a:rPr b="0" lang="zh-CN" sz="4400" spc="-1" strike="noStrike" u="sng">
                <a:solidFill>
                  <a:srgbClr val="808000"/>
                </a:solidFill>
                <a:uFillTx/>
                <a:latin typeface="Times New Roman"/>
              </a:rPr>
              <a:t> </a:t>
            </a:r>
            <a:r>
              <a:rPr b="0" lang="zh-CN" sz="4400" spc="-1" strike="noStrike" u="sng">
                <a:solidFill>
                  <a:srgbClr val="808000"/>
                </a:solidFill>
                <a:uFillTx/>
                <a:latin typeface="Times New Roman"/>
                <a:ea typeface="隶书"/>
              </a:rPr>
              <a:t>面向对象程序设计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7.1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类与对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7.2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设计类与对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7.3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事件与方法程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导读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首先要搞清有关基本概念如：类与对象，控件及其属性事件方法程序还有数据环境；其次要学会创建类与对象及其引用；然后要学会面向对象程序设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2T08:18:23Z</dcterms:created>
  <dc:creator>pcn</dc:creator>
  <dc:description/>
  <dc:language>en-US</dc:language>
  <cp:lastModifiedBy>pcn</cp:lastModifiedBy>
  <dcterms:modified xsi:type="dcterms:W3CDTF">2002-01-06T20:42:03Z</dcterms:modified>
  <cp:revision>4</cp:revision>
  <dc:subject/>
  <dc:title>第七章 面向对象程序设计</dc:title>
</cp:coreProperties>
</file>